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B697-1845-486A-9004-027B57F7B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D78F-8F3B-4FFF-8C5C-15B1493F33C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99F7-F23B-4009-9153-A3AB798BAA8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FC7-DD74-481F-9B2C-0167C466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E70-C35F-4C7C-889A-DD5D9675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2BD-3A14-47DD-A176-7C0178EB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788-C2DD-471C-B69A-B52A807C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3DA0-BCFB-4C50-B0AE-28ECEE0E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9681-23E3-458C-A355-B257049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8273-011B-4DE4-8570-035DB7EF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2436-A385-49C7-A2C5-FB123D0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5283-14EB-43AC-89C0-3260E856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82C9-EBE8-4277-90EB-087DED42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5BEE-3F6E-4D3C-B7DE-9BEE942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CEE-2FC5-444B-A226-15101970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F44E-FB27-4892-AE7F-A6BA27C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9895-7F23-4AF5-B08E-36479396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CA8B-26FE-46E3-9773-35B5FBE7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52E7-5ED7-4AD4-B403-F46EBBF4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3857-803C-4050-87C6-0FBAB705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BB7-905A-4042-8714-985F653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7F4-3965-4EE5-A971-F7733CDA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CF4-1E5A-46BD-9DF1-AF27D13F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D28-C7CA-40C6-9875-BA809C2E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18F-A9D5-4FCF-A910-C55C4B4F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2ED-91D0-4AA4-8DAC-38104F34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71D-037C-4F5F-A553-AC404528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/1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D292-BE8B-4CA3-9068-7C3679E1A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4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12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10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2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3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4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5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6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7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8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9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1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3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5/1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7141-1768-47A4-B4D2-6D7F7138E71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7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0/5/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D4F4-7029-4825-BAB0-C4E3F19D718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Hope School District Teacher Mentor Program 2010-20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im Blessingt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dd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rporat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ogo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9555120" y="92160"/>
            <a:ext cx="3733920" cy="6613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sert your company logo on this sli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Insert Men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Picture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your logo fi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size the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anywhere inside the logo. The boxes that appear outside the logo are known as “resize handles.”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se to resize the object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hold down the shift key before using the resize handles, you will maintain the proportions of the object you wish to resiz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Picture 9" descr="images.jpg"/>
          <p:cNvPicPr/>
          <p:nvPr/>
        </p:nvPicPr>
        <p:blipFill>
          <a:blip r:embed="rId1"/>
          <a:stretch/>
        </p:blipFill>
        <p:spPr>
          <a:xfrm>
            <a:off x="1600200" y="2971800"/>
            <a:ext cx="28954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B5AF-B270-460A-8189-BC29A46830A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mit/Beyond Re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rk Eth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ccept responsibili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mmit to responsibili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stablish successful habi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lf discipl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u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e want you to be successful!!!!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dea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lineated Standa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4A73-872A-47B1-B530-1CE09B9AC55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 Habits of Highly Effective People (S. Covey 1989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pendence -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fessors/College Train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ependence : Self (privat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know what you need to do and you do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 Proact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in With An End In Mi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t First Things Fir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B869-A852-49E6-8739-8A84E49888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 Habits of Highly Effective People (S. Covey 1989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personal (Publi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Win/W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ek First to Understand Then to Be Underst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ynergi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630-7DE6-4D08-80DE-0815F678F8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 Habits of Highly Effective People (S. Covey 1989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depend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ac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r School Cultures at N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5E15-8FAD-434B-A5EC-2681C9C2B56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 Habits of Highly Effective People (S. Covey 1989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arpen The Sa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ke care of yourself so you will have the capacity to effectively perform in your chosen profes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t Righ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erci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e your Doctors!! You have GREAT health insurance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sociate with individuals whom share your ideals and support you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4E58-1F8B-4B49-AFD2-EB632C2D17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and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etings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X in Sep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X every mon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if need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A412-77FB-4458-80F6-6294B834DA4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Needs Assess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cus Ques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te ASAP and give to your ment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 honest and forthcoming regarding your concerns/need to know topic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FA0B-30BB-4934-89CD-B14291EE57D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pical Categories for Discus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haustive but not all inclusive.     (Initial &amp; date as discussed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ruct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havioral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gis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fes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sonal/Interpers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01A4-DC22-4A02-9B6F-50C8C5A590C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thly description/flow chart of general activit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Initial &amp; date as completed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DE8B-082A-4611-8AD8-348870CE669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track of your administrative observa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track of your administrative appraisal conferen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tor Observations/Mode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“official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g in and learn/confirm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3747-A5E4-492B-BE05-10EDDA7D221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Mentori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hires average 15% of a building’s instructional popul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 Typical School Ye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6% Teacher Turno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% transferred to a different build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% left teaching altogeth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076800" y="542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5717160" y="533412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CES 200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F292-0395-45FE-ACD7-28F5DD71D58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l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ANT FEEDBACK!!!!!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ease be brutally fran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ggestions/observations you make will benefit those whom experience this program after you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70E5-2BE8-41F4-A1E9-1D096C8DE65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Dreibelbis, E. (2002). Plan for Induction of New Teachers 2002-2008. Kinzers, PA: Pequea Valley School Distri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Framingham Public Schools, Framingham, MA. Framingham public schools mentor program handbook. Retrieved October 5, 2010 from http://www.framingham.k12.ma.us/hr/documents/mentorhandbook07.pdf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Peterson, R. W. (1989). Mentor program handbook. Retrieved June 27, 2005, from http://www.gse.uci.edu.MentorTeacher/Preface.html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Liberty School District, Liberty MO (2002). Liberty professional development planning. Retrieved October 5, 2010, from http://www.liberty.k12.mo.us/jobs/pd/teacher-mentor-program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Oregon Department Of Education (2001). Oregon mentor program handbook. Retrieved October 5, 2010, from http://www.ode.state.or.us/search/page/?id=2218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Rutherford, P. (2005) 21st Century Mentor's Handbook. Alexandria, Va: Just Ask Publications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U.S. Dept. of Education, National Center for Education Statistics. (2005). The Condition of Education 2005, NCES 2005-094, Washington, DC: U.S. Government Printing Offic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6D3A-2608-4C94-B837-95AC3570F9E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ggested Reading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(In order of significance.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y, S. (1989)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7 habits of highly effective peop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w York: Simon and Schuster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ime &amp; self management 101!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ber, A. &amp; Mazlish, E. (1995)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talk so kids can learn at home and in school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w York: Simon and Schuster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reat anecdotal scenarios concerning common pitfalls, common questions answered, one page "quick reminder" summations of each chapter, "right and wrong" cartoons illustrating classroom management and interactions with students and parents. A definite MUST READ!!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lson, R. (1997)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't sweat the small stuff... and it's all small stuff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w York: Hyperion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A vista of personal temperament and a good companion to the Covey book.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, H. J. (1992)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e learn and pass it on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shville, TN: Rutledge Hill Pres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ought provoking perspective.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ong, H. &amp; Wong, R (2001). 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w To Be An Effective Teacher: The First Days Of School.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untain View, CA: Wong Publications (A step by step “how to” guide packed with great ideas to keep a person from becoming overwhelmed!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0B52-754C-43D9-A026-0F3BB6AA00A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ank You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13" descr="images.jpg"/>
          <p:cNvPicPr/>
          <p:nvPr/>
        </p:nvPicPr>
        <p:blipFill>
          <a:blip r:embed="rId1"/>
          <a:stretch/>
        </p:blipFill>
        <p:spPr>
          <a:xfrm>
            <a:off x="2249640" y="1341360"/>
            <a:ext cx="5406840" cy="524844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10" descr=""/>
          <p:cNvPicPr/>
          <p:nvPr/>
        </p:nvPicPr>
        <p:blipFill>
          <a:blip r:embed="rId2"/>
          <a:stretch/>
        </p:blipFill>
        <p:spPr>
          <a:xfrm>
            <a:off x="1444680" y="2736720"/>
            <a:ext cx="71690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CD93-5CEA-4EA9-98AB-84F4E315CA4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sons for leaving : (top 5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ck of Planning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klo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Size/Student Popul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o Low a Sa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blematic Student Behavi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17160" y="49528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CES 200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0AE3-51DB-48D6-9ACF-B5603CCC36A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the Stats Sh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1066680" y="2819520"/>
            <a:ext cx="7772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Jester"/>
              </a:rPr>
              <a:t>Teaching Is Not For Everyone !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19AD-519D-4B9C-BC07-30A592F01D6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ccess is Cumulativ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ss for New Teac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ss for Our Prof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ss for Our Childr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ildren are the world’s most precious commodity and the raw materials which will make up our future socie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2EE4-4460-4F37-A2DC-9709139A151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nto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k or Swim” menta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’m OK…. You’re OK…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n’t need help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u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icul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es, you choose how to do your job, but it’s nice to have options available which have been field tes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6EC6-FF53-4FAF-9AB0-B187D6461DF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nefit from our experienc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r Mentors are experts on The New Hope School District and your building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bined years of mentor teaching experience in the room…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704D-0F47-4BB2-A3BD-AD7BFB27C5A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s is not a perfect place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reaucr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gs that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gs that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.and the answer is……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5745-072B-42CB-AC97-C32CE2A7DE4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bble"/>
              </a:rPr>
              <a:t>The Serenity Prayer</a:t>
            </a:r>
            <a:br>
              <a:rPr sz="12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God grant me the serenity to accept the things I cannot change; courage to change the things I can;  and wisdom to know the difference.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Living one day at a time; Enjoying one moment at a time;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Accepting hardships as the pathway to peace;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Taking, as He did, this sinful world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as it is, not as I would have it;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Trusting that He will make all things right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if I surrender to His Will;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That I may be reasonably happy in this life and supremely happy with Him Forever in the next.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Amen.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--Reinhold Niebuh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1:39:15Z</dcterms:created>
  <dc:creator/>
  <dc:description/>
  <dc:language>en-US</dc:language>
  <cp:lastModifiedBy>Teacher User</cp:lastModifiedBy>
  <cp:lastPrinted>2007-02-04T03:38:54Z</cp:lastPrinted>
  <dcterms:modified xsi:type="dcterms:W3CDTF">2010-10-06T02:25:44Z</dcterms:modified>
  <cp:revision>17</cp:revision>
  <dc:subject/>
  <dc:title>PowerPoint Presentation</dc:title>
</cp:coreProperties>
</file>